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7772400" cy="100584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E005-6F76-44E7-80B4-A1EA241BD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699480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800" y="5814000"/>
            <a:ext cx="699480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B392-BAC9-49FF-8C93-4D5932C1C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7296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800" y="581400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72960" y="581400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87BB-77CD-49A0-9E2D-E5CCCBF3F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54000" y="234612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19200" y="234612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800" y="581400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54000" y="581400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119200" y="581400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3C49-4250-43BD-A1B6-D6D8108B2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800" y="2346120"/>
            <a:ext cx="6994800" cy="66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9F4E-3EB9-44DE-AD30-BE88FBAFC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6994800" cy="66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591E-07B2-455B-8768-9A19FA210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3413160" cy="66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72960" y="2346120"/>
            <a:ext cx="3413160" cy="66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8914-835D-42DC-9FB8-598ED5833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D079-ED7F-457D-9A0C-1F0338E9B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800" y="402840"/>
            <a:ext cx="699480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7A29-5EBB-4F80-80A0-539578634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72960" y="2346120"/>
            <a:ext cx="3413160" cy="66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800" y="581400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3832-2B6E-4851-85DF-C98E098C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3413160" cy="66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296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72960" y="581400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DB7C-7B73-4587-9FB0-49840258B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296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800" y="5814000"/>
            <a:ext cx="699480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3E9C-957B-45D1-BA75-016E0218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800" y="2346120"/>
            <a:ext cx="6994800" cy="66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8800" y="9323280"/>
            <a:ext cx="181296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55720" y="9323280"/>
            <a:ext cx="246096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570640" y="9323280"/>
            <a:ext cx="181296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24DC3-57EA-4948-BD4A-471D495BB9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7599240"/>
            <a:ext cx="7772400" cy="24591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777960" y="8493120"/>
            <a:ext cx="621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bottOldStyle"/>
              </a:rPr>
              <a:t>Order of Oper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3886200"/>
            <a:ext cx="1943280" cy="3713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1943280" cy="3886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1943280" y="3886200"/>
            <a:ext cx="1942920" cy="3713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3886200" y="3886200"/>
            <a:ext cx="1943280" cy="3713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5829480" y="3886200"/>
            <a:ext cx="1942920" cy="3713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5829480" y="0"/>
            <a:ext cx="1942920" cy="3886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3886200" y="0"/>
            <a:ext cx="1943280" cy="3886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1943280" y="0"/>
            <a:ext cx="1942920" cy="3886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3"/>
          <p:cNvSpPr/>
          <p:nvPr/>
        </p:nvSpPr>
        <p:spPr>
          <a:xfrm>
            <a:off x="228600" y="4800600"/>
            <a:ext cx="1523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enthe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4"/>
          <p:cNvSpPr/>
          <p:nvPr/>
        </p:nvSpPr>
        <p:spPr>
          <a:xfrm>
            <a:off x="2057400" y="495288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5"/>
          <p:cNvSpPr/>
          <p:nvPr/>
        </p:nvSpPr>
        <p:spPr>
          <a:xfrm>
            <a:off x="4038480" y="4800600"/>
            <a:ext cx="1676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ulti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r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6"/>
          <p:cNvSpPr/>
          <p:nvPr/>
        </p:nvSpPr>
        <p:spPr>
          <a:xfrm>
            <a:off x="5943600" y="4800600"/>
            <a:ext cx="1676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bt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r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ight Arrow 17"/>
          <p:cNvSpPr/>
          <p:nvPr/>
        </p:nvSpPr>
        <p:spPr>
          <a:xfrm>
            <a:off x="-2743200" y="609480"/>
            <a:ext cx="1935000" cy="26830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ert graphics or pictures in these box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8"/>
          <p:cNvSpPr/>
          <p:nvPr/>
        </p:nvSpPr>
        <p:spPr>
          <a:xfrm>
            <a:off x="228600" y="1143000"/>
            <a:ext cx="160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850-Deco"/>
              </a:rPr>
              <a:t>()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9"/>
          <p:cNvSpPr/>
          <p:nvPr/>
        </p:nvSpPr>
        <p:spPr>
          <a:xfrm>
            <a:off x="4114800" y="1219320"/>
            <a:ext cx="1600200" cy="21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 baseline="-25000">
                <a:solidFill>
                  <a:srgbClr val="000000"/>
                </a:solidFill>
                <a:latin typeface="A850-Deco"/>
              </a:rPr>
              <a:t>x</a:t>
            </a:r>
            <a:r>
              <a:rPr b="1" lang="en-US" sz="1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÷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0"/>
          <p:cNvSpPr/>
          <p:nvPr/>
        </p:nvSpPr>
        <p:spPr>
          <a:xfrm>
            <a:off x="5943600" y="838080"/>
            <a:ext cx="1600200" cy="20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200" spc="-1" strike="noStrike" baseline="30000">
                <a:solidFill>
                  <a:srgbClr val="000000"/>
                </a:solidFill>
                <a:latin typeface="A850-Deco"/>
              </a:rPr>
              <a:t>+</a:t>
            </a:r>
            <a:r>
              <a:rPr b="1" lang="en-US" sz="11200" spc="-1" strike="noStrike">
                <a:solidFill>
                  <a:srgbClr val="000000"/>
                </a:solidFill>
                <a:latin typeface="A850-Deco"/>
              </a:rPr>
              <a:t> </a:t>
            </a:r>
            <a:r>
              <a:rPr b="1" lang="en-US" sz="11200" spc="-1" strike="noStrike" baseline="-25000">
                <a:solidFill>
                  <a:srgbClr val="000000"/>
                </a:solidFill>
                <a:latin typeface="A850-Deco"/>
              </a:rPr>
              <a:t>-</a:t>
            </a:r>
            <a:endParaRPr b="0" lang="en-US" sz="1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1"/>
          <p:cNvSpPr/>
          <p:nvPr/>
        </p:nvSpPr>
        <p:spPr>
          <a:xfrm>
            <a:off x="2133720" y="1295280"/>
            <a:ext cx="1600200" cy="14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 baseline="-25000">
                <a:solidFill>
                  <a:srgbClr val="000000"/>
                </a:solidFill>
                <a:latin typeface="A850-Deco"/>
              </a:rPr>
              <a:t>3</a:t>
            </a:r>
            <a:r>
              <a:rPr b="1" lang="en-US" sz="8000" spc="-1" strike="noStrike" baseline="30000">
                <a:solidFill>
                  <a:srgbClr val="000000"/>
                </a:solidFill>
                <a:latin typeface="A850-Deco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0" y="7599240"/>
            <a:ext cx="7772400" cy="24591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0" y="3886200"/>
            <a:ext cx="1943280" cy="3713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0" y="0"/>
            <a:ext cx="1943280" cy="3886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1943280" y="3886200"/>
            <a:ext cx="1942920" cy="3713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3886200" y="3886200"/>
            <a:ext cx="1943280" cy="3713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5829480" y="3886200"/>
            <a:ext cx="1942920" cy="3713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0"/>
          <p:cNvSpPr/>
          <p:nvPr/>
        </p:nvSpPr>
        <p:spPr>
          <a:xfrm>
            <a:off x="5829480" y="0"/>
            <a:ext cx="1942920" cy="3886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1"/>
          <p:cNvSpPr/>
          <p:nvPr/>
        </p:nvSpPr>
        <p:spPr>
          <a:xfrm>
            <a:off x="3886200" y="0"/>
            <a:ext cx="1943280" cy="3886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2"/>
          <p:cNvSpPr/>
          <p:nvPr/>
        </p:nvSpPr>
        <p:spPr>
          <a:xfrm>
            <a:off x="1943280" y="0"/>
            <a:ext cx="1942920" cy="3886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4"/>
          <p:cNvSpPr/>
          <p:nvPr/>
        </p:nvSpPr>
        <p:spPr>
          <a:xfrm rot="10800000">
            <a:off x="2133360" y="35640"/>
            <a:ext cx="160020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400" spc="-1" strike="noStrike">
                <a:solidFill>
                  <a:srgbClr val="000000"/>
                </a:solidFill>
                <a:latin typeface="A850-Deco"/>
              </a:rPr>
              <a:t>M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400" spc="-1" strike="noStrike">
                <a:solidFill>
                  <a:srgbClr val="000000"/>
                </a:solidFill>
                <a:latin typeface="A850-Deco"/>
              </a:rPr>
              <a:t>D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5"/>
          <p:cNvSpPr/>
          <p:nvPr/>
        </p:nvSpPr>
        <p:spPr>
          <a:xfrm rot="10800000">
            <a:off x="6019560" y="705600"/>
            <a:ext cx="1600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400" spc="-1" strike="noStrike">
                <a:solidFill>
                  <a:srgbClr val="000000"/>
                </a:solidFill>
                <a:latin typeface="A850-Deco"/>
              </a:rPr>
              <a:t>P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6"/>
          <p:cNvSpPr/>
          <p:nvPr/>
        </p:nvSpPr>
        <p:spPr>
          <a:xfrm rot="10800000">
            <a:off x="4038120" y="705600"/>
            <a:ext cx="1676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400" spc="-1" strike="noStrike">
                <a:solidFill>
                  <a:srgbClr val="000000"/>
                </a:solidFill>
                <a:latin typeface="A850-Deco"/>
              </a:rPr>
              <a:t>E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ight Arrow 17"/>
          <p:cNvSpPr/>
          <p:nvPr/>
        </p:nvSpPr>
        <p:spPr>
          <a:xfrm>
            <a:off x="-3048120" y="609480"/>
            <a:ext cx="2849760" cy="3353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ert pictures in these boxes, add text, or do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lowchart: Decision 19"/>
          <p:cNvSpPr/>
          <p:nvPr/>
        </p:nvSpPr>
        <p:spPr>
          <a:xfrm>
            <a:off x="-3276720" y="5334120"/>
            <a:ext cx="2971800" cy="2819160"/>
          </a:xfrm>
          <a:prstGeom prst="flowChartDecision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nt slide one.  Feed the paper back through and print slide tw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lowchart: Decision 20"/>
          <p:cNvSpPr/>
          <p:nvPr/>
        </p:nvSpPr>
        <p:spPr>
          <a:xfrm>
            <a:off x="7848720" y="4419720"/>
            <a:ext cx="3429000" cy="3352680"/>
          </a:xfrm>
          <a:prstGeom prst="flowChartDecision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fter printing cut between vertical slits between flaps.  Cut between the top rectangles on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1"/>
          <p:cNvSpPr/>
          <p:nvPr/>
        </p:nvSpPr>
        <p:spPr>
          <a:xfrm rot="10800000">
            <a:off x="228240" y="35640"/>
            <a:ext cx="160020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400" spc="-1" strike="noStrike">
                <a:solidFill>
                  <a:srgbClr val="000000"/>
                </a:solidFill>
                <a:latin typeface="A850-Deco"/>
              </a:rPr>
              <a:t>A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400" spc="-1" strike="noStrike">
                <a:solidFill>
                  <a:srgbClr val="000000"/>
                </a:solidFill>
                <a:latin typeface="A850-Deco"/>
              </a:rPr>
              <a:t>S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5:58:47Z</dcterms:created>
  <dc:creator>ccunningham</dc:creator>
  <dc:description/>
  <dc:language>en-US</dc:language>
  <cp:lastModifiedBy>Valued Acer Customer</cp:lastModifiedBy>
  <dcterms:modified xsi:type="dcterms:W3CDTF">2010-07-12T15:07:56Z</dcterms:modified>
  <cp:revision>1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utoReflect">
    <vt:bool>0</vt:bool>
  </property>
  <property fmtid="{D5CDD505-2E9C-101B-9397-08002B2CF9AE}" pid="3" name="KeepGraph">
    <vt:bool>0</vt:bool>
  </property>
  <property fmtid="{D5CDD505-2E9C-101B-9397-08002B2CF9AE}" pid="4" name="ShowPercent">
    <vt:bool>1</vt:bool>
  </property>
  <property fmtid="{D5CDD505-2E9C-101B-9397-08002B2CF9AE}" pid="5" name="ShowTimer">
    <vt:bool>1</vt:bool>
  </property>
</Properties>
</file>